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C916-D7CF-44B3-AE17-656856D61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55F4-CC6E-4530-A2FA-DBB80CD7FFB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B2FF-1777-4D92-A46A-AD26E02BA9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DD26-2DEF-4F24-8FAF-5AEE26C91D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C0EA-2C07-481E-B7D2-FED48B09D2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3BB-6BDC-4A6A-B70B-861322D0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20E-B910-4C89-95B8-770863E7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B66-B3E8-4049-8BA2-84ECCB94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108-3652-4E94-B307-6E047EFE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4A74-9B35-42B5-B5A7-62FB7B44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C154-58DD-4C88-9392-E4EC26F4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CF98-F212-47DC-BDCA-9A471955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90E9-29BF-433A-B2A1-4D57DB2D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B302-5724-4365-B637-4FB0F1D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58DA-F1CE-4650-9628-99BF7DC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F22D-3525-4500-8775-41D672FD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268-8E7E-467F-AF1F-3DFA476D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5EC3-EEC4-4900-B816-D18A6F41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D39E-7F2E-4E93-BE05-3CFA3F5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118B-564B-4677-BE8D-0FD8FFDF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AF37-09E8-4976-A743-CB21A175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A383-4CCB-4E41-BB15-C3CEF741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F3A-7159-4CA8-964D-0BAE9F90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C40-2B90-4BD1-8DA2-811782C5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FAC-D3C5-4D75-B335-E3A4E744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FD9-E644-49B6-B527-CE33AC52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1D9-B9E3-4C90-8E18-72DAC7D6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472-71C1-4778-A6D7-6A9D4D31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C54-9F73-4C63-B701-D8FAB6B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3663-9F04-48C4-B2B1-BB6AA8C023A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A502-C9EA-4192-BCBC-2308DA9144E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kraftwerk-tourdefrance"/>
          <p:cNvPicPr/>
          <p:nvPr/>
        </p:nvPicPr>
        <p:blipFill>
          <a:blip r:embed="rId1"/>
          <a:stretch/>
        </p:blipFill>
        <p:spPr>
          <a:xfrm>
            <a:off x="108000" y="11592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615960" y="1987560"/>
            <a:ext cx="8242200" cy="205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ект для учащихся 10-11 класс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гатить знания учащихся по страноведению  Фран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ширить кругозор уча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ть любовь к спор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5" descr="85067"/>
          <p:cNvPicPr/>
          <p:nvPr/>
        </p:nvPicPr>
        <p:blipFill>
          <a:blip r:embed="rId2"/>
          <a:stretch/>
        </p:blipFill>
        <p:spPr>
          <a:xfrm>
            <a:off x="4572000" y="3933720"/>
            <a:ext cx="4068720" cy="2766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274680" y="96840"/>
            <a:ext cx="8686800" cy="1446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началась истор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ur de Franc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вы основные принципы велогон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рию призовых ма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льтурные тради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некоторые интересные фак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орах гоно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гендарных участник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бедителя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сских гонщи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 создание проекта ученикам даётся 6-8 часов. Из них 1 или 2 часа на поиск информации, 2-3 часа на создание и 1-2 часа на защиту проект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ла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тельской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торепортаж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нгаз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ения викторины среди одноклассников по данной те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tdf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3573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Bonne</a:t>
            </a: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chance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ru.wikipedia.org/wiki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www.eventguide.ru/event/1070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blog.ebike.ru/wps/2008/02/20/istoriya-tur-de-fran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дентка 428 группы факультета иностранных языков КГПИ Холопова Оль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09-10-25T15:24:02Z</dcterms:modified>
  <cp:revision>14</cp:revision>
  <dc:subject/>
  <dc:title>Le tour de france</dc:title>
</cp:coreProperties>
</file>